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369-D176-460A-9C2C-8266A479CC98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58920C28-25BE-4F6D-ACDD-394C3A2A1EAB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69"/>
                </a:solidFill>
                <a:latin typeface="Arial"/>
              </a:rPr>
              <a:t>PCO-Tracing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2819520"/>
            <a:ext cx="8153280" cy="3409920"/>
            <a:chOff x="457200" y="2819520"/>
            <a:chExt cx="8153280" cy="3409920"/>
          </a:xfrm>
        </p:grpSpPr>
        <p:grpSp>
          <p:nvGrpSpPr>
            <p:cNvPr id="178" name=""/>
            <p:cNvGrpSpPr/>
            <p:nvPr/>
          </p:nvGrpSpPr>
          <p:grpSpPr>
            <a:xfrm>
              <a:off x="457200" y="2819520"/>
              <a:ext cx="5029200" cy="3390840"/>
              <a:chOff x="457200" y="2819520"/>
              <a:chExt cx="5029200" cy="33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" y="2819520"/>
                <a:ext cx="50292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Furthermore ...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via the matrix context menu the observation of specific entities can easily be configured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419720"/>
                <a:ext cx="120024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343400"/>
                <a:ext cx="1762200" cy="18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flipV="1">
                <a:off x="1523880" y="4952880"/>
                <a:ext cx="685800" cy="7632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067280" y="5333760"/>
                <a:ext cx="609480" cy="15228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678200" y="4191120"/>
              <a:ext cx="3932280" cy="20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57200" y="1066680"/>
            <a:ext cx="8232840" cy="2221200"/>
            <a:chOff x="457200" y="1066680"/>
            <a:chExt cx="8232840" cy="222120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066680"/>
              <a:ext cx="3127320" cy="22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7200" y="1143000"/>
              <a:ext cx="50497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ince CCDDATA version 1.6.x (GPF 15)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CO is provided with information about existing entities and their SAP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herefore only meaningful checkboxes are enabled in the matrix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uring the second step, the logg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 meaningful named PCO logfile will be created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6040" y="1981080"/>
            <a:ext cx="7935840" cy="4067280"/>
            <a:chOff x="446040" y="1981080"/>
            <a:chExt cx="7935840" cy="40672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027080" y="3657600"/>
              <a:ext cx="2782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6040" y="198108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t first a directory has to be select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where the sessions shall be stor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029200" y="2895480"/>
              <a:ext cx="30862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flipV="1">
              <a:off x="3581280" y="3580920"/>
              <a:ext cx="137160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505320"/>
            <a:ext cx="7935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ry received trace and primitiv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ill now be stored into the PCO logfile (cipher_test_23.pco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the ASCII-traces are not needed for TCGen later 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1143000"/>
            <a:ext cx="7748640" cy="990720"/>
            <a:chOff x="457200" y="1143000"/>
            <a:chExt cx="7748640" cy="990720"/>
          </a:xfrm>
        </p:grpSpPr>
        <p:sp>
          <p:nvSpPr>
            <p:cNvPr id="200" name=""/>
            <p:cNvSpPr/>
            <p:nvPr/>
          </p:nvSpPr>
          <p:spPr>
            <a:xfrm>
              <a:off x="457200" y="114300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a session name has to be provid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preferable self explaining </a:t>
              </a:r>
              <a:r>
                <a:rPr b="0" lang="de-DE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019920" y="1143000"/>
              <a:ext cx="218592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57200" y="2362320"/>
            <a:ext cx="7796160" cy="927000"/>
            <a:chOff x="457200" y="2362320"/>
            <a:chExt cx="7796160" cy="927000"/>
          </a:xfrm>
        </p:grpSpPr>
        <p:sp>
          <p:nvSpPr>
            <p:cNvPr id="203" name=""/>
            <p:cNvSpPr/>
            <p:nvPr/>
          </p:nvSpPr>
          <p:spPr>
            <a:xfrm>
              <a:off x="457200" y="2362320"/>
              <a:ext cx="548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nd the logging can beg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by pressing the „REC“ord-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6019920" y="2362320"/>
              <a:ext cx="223344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57200" y="4800600"/>
            <a:ext cx="7935840" cy="917640"/>
            <a:chOff x="457200" y="4800600"/>
            <a:chExt cx="7935840" cy="917640"/>
          </a:xfrm>
        </p:grpSpPr>
        <p:sp>
          <p:nvSpPr>
            <p:cNvPr id="206" name=""/>
            <p:cNvSpPr/>
            <p:nvPr/>
          </p:nvSpPr>
          <p:spPr>
            <a:xfrm>
              <a:off x="457200" y="480060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5000"/>
            </a:bodyPr>
            <a:p>
              <a:pPr marL="188640" indent="-1886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When the session is o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„STOP“ will close the .pco 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2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:\testsessions\MM_SM_observation\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ipher_test_23.pco“ can be forwarded to other testers for TCGen processing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19920" y="4800600"/>
              <a:ext cx="2205000" cy="9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6680" y="99072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There are two ways to call TCGen directly through the PCO GUI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371600"/>
            <a:ext cx="5181480" cy="3906360"/>
            <a:chOff x="457200" y="1371600"/>
            <a:chExt cx="5181480" cy="3906360"/>
          </a:xfrm>
        </p:grpSpPr>
        <p:sp>
          <p:nvSpPr>
            <p:cNvPr id="213" name=""/>
            <p:cNvSpPr/>
            <p:nvPr/>
          </p:nvSpPr>
          <p:spPr>
            <a:xfrm>
              <a:off x="457200" y="1371600"/>
              <a:ext cx="495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the PCO-Controll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143000" y="1904760"/>
              <a:ext cx="220500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3429000" y="3581280"/>
              <a:ext cx="220968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971800" y="2438280"/>
              <a:ext cx="609480" cy="106632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57200" y="5048280"/>
            <a:ext cx="8381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In both cases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other parameters to TCGen have to filled into the edit fiel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i-file and rules-file of TCGen may be opened and edited via the butt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„Run“-button will start the gene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048120"/>
            <a:ext cx="2819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all entries of the selected .pco-file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495680" y="1371600"/>
            <a:ext cx="4434120" cy="2590920"/>
            <a:chOff x="4495680" y="1371600"/>
            <a:chExt cx="4434120" cy="2590920"/>
          </a:xfrm>
        </p:grpSpPr>
        <p:sp>
          <p:nvSpPr>
            <p:cNvPr id="220" name=""/>
            <p:cNvSpPr/>
            <p:nvPr/>
          </p:nvSpPr>
          <p:spPr>
            <a:xfrm>
              <a:off x="4495680" y="137160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a PCO-Standard-View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495680" y="1752840"/>
              <a:ext cx="43340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5334120" y="1828800"/>
              <a:ext cx="955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6858000" y="2438640"/>
              <a:ext cx="2071800" cy="10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H="1">
              <a:off x="5029200" y="2438640"/>
              <a:ext cx="457200" cy="11430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3353040"/>
              <a:ext cx="2743200" cy="60948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15000" y="3886200"/>
            <a:ext cx="327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either all entries visible in the current viewer 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or all selected entries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2286000"/>
            <a:ext cx="2451240" cy="3657600"/>
            <a:chOff x="457200" y="2286000"/>
            <a:chExt cx="2451240" cy="365760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2286000"/>
              <a:ext cx="2442960" cy="2370240"/>
              <a:chOff x="457200" y="2286000"/>
              <a:chExt cx="2442960" cy="23702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7920" y="2286000"/>
                <a:ext cx="172224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0712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53352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Field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PCO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90920" y="3200400"/>
            <a:ext cx="1695240" cy="1384200"/>
            <a:chOff x="2590920" y="3200400"/>
            <a:chExt cx="1695240" cy="1384200"/>
          </a:xfrm>
        </p:grpSpPr>
        <p:sp>
          <p:nvSpPr>
            <p:cNvPr id="90" name=""/>
            <p:cNvSpPr/>
            <p:nvPr/>
          </p:nvSpPr>
          <p:spPr>
            <a:xfrm>
              <a:off x="3124080" y="3200400"/>
              <a:ext cx="1162080" cy="138420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9092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43400" y="3124080"/>
            <a:ext cx="1767600" cy="1820880"/>
            <a:chOff x="4343400" y="3124080"/>
            <a:chExt cx="1767600" cy="1820880"/>
          </a:xfrm>
        </p:grpSpPr>
        <p:grpSp>
          <p:nvGrpSpPr>
            <p:cNvPr id="93" name=""/>
            <p:cNvGrpSpPr/>
            <p:nvPr/>
          </p:nvGrpSpPr>
          <p:grpSpPr>
            <a:xfrm>
              <a:off x="4877280" y="3124080"/>
              <a:ext cx="1233720" cy="1820880"/>
              <a:chOff x="4877280" y="3124080"/>
              <a:chExt cx="1233720" cy="18208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924800" y="3124080"/>
                <a:ext cx="1150560" cy="1030680"/>
                <a:chOff x="4924800" y="3124080"/>
                <a:chExt cx="1150560" cy="1030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409360" y="3156120"/>
                  <a:ext cx="238680" cy="13104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36040" y="355752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73400" y="3557520"/>
                  <a:ext cx="135720" cy="20700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64120" y="3269160"/>
                  <a:ext cx="236160" cy="2080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742360" y="3273480"/>
                  <a:ext cx="238680" cy="2106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4120" y="3837600"/>
                  <a:ext cx="23616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48840" y="3834360"/>
                  <a:ext cx="232560" cy="2106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4034160"/>
                  <a:ext cx="232560" cy="1206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97600" y="3273480"/>
                  <a:ext cx="838440" cy="7606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60760" y="3124080"/>
                  <a:ext cx="233280" cy="1195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8160" y="3520440"/>
                  <a:ext cx="141840" cy="21132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924800" y="351720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18760" y="3232800"/>
                  <a:ext cx="233280" cy="20700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97360" y="3232800"/>
                  <a:ext cx="232560" cy="2113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18760" y="3801240"/>
                  <a:ext cx="23940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3480" y="3793680"/>
                  <a:ext cx="232560" cy="2145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55360" y="3990600"/>
                  <a:ext cx="232560" cy="12780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49000" y="3240360"/>
                  <a:ext cx="841680" cy="76140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66880" y="35204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36640" y="34916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336640" y="3491640"/>
                  <a:ext cx="326880" cy="2948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15400" y="3470040"/>
                  <a:ext cx="302760" cy="2764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877280" y="4226400"/>
                <a:ext cx="123372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5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est-Case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Generator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434340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72200" y="2971800"/>
            <a:ext cx="2832120" cy="2971800"/>
            <a:chOff x="6172200" y="2971800"/>
            <a:chExt cx="2832120" cy="2971800"/>
          </a:xfrm>
        </p:grpSpPr>
        <p:sp>
          <p:nvSpPr>
            <p:cNvPr id="120" name=""/>
            <p:cNvSpPr/>
            <p:nvPr/>
          </p:nvSpPr>
          <p:spPr>
            <a:xfrm>
              <a:off x="662940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TAP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72200" y="2971800"/>
              <a:ext cx="2328840" cy="1833480"/>
              <a:chOff x="6172200" y="2971800"/>
              <a:chExt cx="2328840" cy="18334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05720" y="2971800"/>
                <a:ext cx="1795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flipV="1">
                <a:off x="617220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final goal i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generate new test cas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using logged life data from field te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1752480"/>
            <a:ext cx="5027760" cy="4803120"/>
            <a:chOff x="1981080" y="1752480"/>
            <a:chExt cx="5027760" cy="4803120"/>
          </a:xfrm>
        </p:grpSpPr>
        <p:grpSp>
          <p:nvGrpSpPr>
            <p:cNvPr id="127" name=""/>
            <p:cNvGrpSpPr/>
            <p:nvPr/>
          </p:nvGrpSpPr>
          <p:grpSpPr>
            <a:xfrm>
              <a:off x="1981080" y="1752480"/>
              <a:ext cx="3219120" cy="4803120"/>
              <a:chOff x="1981080" y="1752480"/>
              <a:chExt cx="3219120" cy="4803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981080" y="1752480"/>
                <a:ext cx="3208320" cy="3112200"/>
                <a:chOff x="1981080" y="1752480"/>
                <a:chExt cx="3208320" cy="31122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7520" y="1752480"/>
                  <a:ext cx="2261880" cy="238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81080" y="3355920"/>
                  <a:ext cx="2403720" cy="150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1" name=""/>
              <p:cNvSpPr/>
              <p:nvPr/>
            </p:nvSpPr>
            <p:spPr>
              <a:xfrm>
                <a:off x="2081160" y="4954320"/>
                <a:ext cx="3119040" cy="16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with PCO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783320" y="2953080"/>
              <a:ext cx="2225520" cy="1817280"/>
              <a:chOff x="4783320" y="2953080"/>
              <a:chExt cx="2225520" cy="1817280"/>
            </a:xfrm>
          </p:grpSpPr>
          <p:sp>
            <p:nvSpPr>
              <p:cNvPr id="133" name=""/>
              <p:cNvSpPr/>
              <p:nvPr/>
            </p:nvSpPr>
            <p:spPr>
              <a:xfrm>
                <a:off x="5483160" y="2953080"/>
                <a:ext cx="1525680" cy="181728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PCO </a:t>
                </a:r>
                <a:br>
                  <a:rPr sz="2000"/>
                </a:b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83320" y="3753000"/>
                <a:ext cx="566640" cy="1872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day you’ll learn how to create suitable PC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is a PCO logfil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523880"/>
            <a:ext cx="7935840" cy="3570480"/>
            <a:chOff x="457200" y="1523880"/>
            <a:chExt cx="7935840" cy="3570480"/>
          </a:xfrm>
        </p:grpSpPr>
        <p:sp>
          <p:nvSpPr>
            <p:cNvPr id="139" name=""/>
            <p:cNvSpPr/>
            <p:nvPr/>
          </p:nvSpPr>
          <p:spPr>
            <a:xfrm>
              <a:off x="1447920" y="3276720"/>
              <a:ext cx="1527120" cy="181764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1523880"/>
              <a:ext cx="793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 binary File named „xxx.pco“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1981080"/>
            <a:ext cx="7935840" cy="4083120"/>
            <a:chOff x="457200" y="1981080"/>
            <a:chExt cx="7935840" cy="408312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981080"/>
              <a:ext cx="7935840" cy="4083120"/>
              <a:chOff x="457200" y="1981080"/>
              <a:chExt cx="7935840" cy="40831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2514600"/>
                <a:ext cx="4419360" cy="35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57200" y="1981080"/>
                <a:ext cx="79358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containing information about sent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200400" y="3886200"/>
              <a:ext cx="533520" cy="457200"/>
            </a:xfrm>
            <a:prstGeom prst="leftRightArrow">
              <a:avLst>
                <a:gd name="adj1" fmla="val 50000"/>
                <a:gd name="adj2" fmla="val 23230"/>
              </a:avLst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As a first step primitive duplication has to be request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447920"/>
            <a:ext cx="7935840" cy="4824360"/>
            <a:chOff x="457200" y="1447920"/>
            <a:chExt cx="7935840" cy="48243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33520" y="2286000"/>
              <a:ext cx="302256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144792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y setting up the primitive matrix in PCO controller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040" y="1828800"/>
            <a:ext cx="7935840" cy="3852000"/>
            <a:chOff x="446040" y="1828800"/>
            <a:chExt cx="7935840" cy="3852000"/>
          </a:xfrm>
        </p:grpSpPr>
        <p:sp>
          <p:nvSpPr>
            <p:cNvPr id="154" name=""/>
            <p:cNvSpPr/>
            <p:nvPr/>
          </p:nvSpPr>
          <p:spPr>
            <a:xfrm>
              <a:off x="446040" y="182880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sending the configuration to the 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02600">
              <a:off x="1141560" y="2762280"/>
              <a:ext cx="3124080" cy="2628720"/>
            </a:xfrm>
            <a:prstGeom prst="lightningBol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57600" y="2286000"/>
            <a:ext cx="5105520" cy="3809880"/>
            <a:chOff x="3657600" y="2286000"/>
            <a:chExt cx="5105520" cy="380988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19720" y="2286000"/>
              <a:ext cx="427644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>
              <a:off x="3657600" y="4267080"/>
              <a:ext cx="60948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638680"/>
              <a:ext cx="46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onnected viewers will show immediate result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has to be configured in the matrix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79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depends on which entities shall be observed ... e.g. MM &amp; 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6040" y="1523880"/>
            <a:ext cx="7935840" cy="4673880"/>
            <a:chOff x="446040" y="1523880"/>
            <a:chExt cx="7935840" cy="4673880"/>
          </a:xfrm>
        </p:grpSpPr>
        <p:sp>
          <p:nvSpPr>
            <p:cNvPr id="164" name=""/>
            <p:cNvSpPr/>
            <p:nvPr/>
          </p:nvSpPr>
          <p:spPr>
            <a:xfrm>
              <a:off x="446040" y="152388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the existing SAP‘s ... e.g. for the GPRS protocol stack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7238880" cy="421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o observe MM and SS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219320"/>
            <a:ext cx="7935840" cy="4937040"/>
            <a:chOff x="457200" y="1219320"/>
            <a:chExt cx="7935840" cy="4937040"/>
          </a:xfrm>
        </p:grpSpPr>
        <p:sp>
          <p:nvSpPr>
            <p:cNvPr id="169" name=""/>
            <p:cNvSpPr/>
            <p:nvPr/>
          </p:nvSpPr>
          <p:spPr>
            <a:xfrm>
              <a:off x="457200" y="1219320"/>
              <a:ext cx="7935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ll „outer“ SAP‘s have to be identifi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3468960" cy="40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46040" y="1523880"/>
            <a:ext cx="8255160" cy="4503960"/>
            <a:chOff x="446040" y="1523880"/>
            <a:chExt cx="8255160" cy="4503960"/>
          </a:xfrm>
        </p:grpSpPr>
        <p:grpSp>
          <p:nvGrpSpPr>
            <p:cNvPr id="172" name=""/>
            <p:cNvGrpSpPr/>
            <p:nvPr/>
          </p:nvGrpSpPr>
          <p:grpSpPr>
            <a:xfrm>
              <a:off x="446040" y="1523880"/>
              <a:ext cx="7935840" cy="2300400"/>
              <a:chOff x="446040" y="1523880"/>
              <a:chExt cx="7935840" cy="2300400"/>
            </a:xfrm>
          </p:grpSpPr>
          <p:sp>
            <p:nvSpPr>
              <p:cNvPr id="173" name=""/>
              <p:cNvSpPr/>
              <p:nvPr/>
            </p:nvSpPr>
            <p:spPr>
              <a:xfrm>
                <a:off x="446040" y="152388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and selected in the matrix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36896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3824280" cy="397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4-06-09T14:25:49Z</dcterms:modified>
  <cp:revision>254</cp:revision>
  <dc:subject/>
  <dc:title>PowerPoint-Präsentation</dc:title>
</cp:coreProperties>
</file>